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3BC-6028-4406-A0CB-EBE554B4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CFE-14B3-4131-B3AB-940FC2E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AD8-D986-4235-8942-AD89923F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D4C-38CA-47FE-95C5-502E490C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741D-6D7A-47E6-90A0-D6A032FB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E4A5-7451-48B0-BF1D-C67D76FA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1B2D-A041-4841-AF0D-1AF3ED72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3166-F337-4E9E-B04E-54B9727C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AA79-3B56-4C06-BC0F-93E6025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5F7F-8A07-4466-8E06-AEF37DD8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B16A-FA85-464E-ADF8-C7332C1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7E29-E834-4592-BA17-ED50882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6A4C-042A-4ECE-BC4A-D3D728A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5AB2-3BF3-43B9-B407-5545E10A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137B-D0CE-4B35-BBDA-BB62BDE4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A8D-A0C1-4B94-A876-8D6737FB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38B3-1260-4A0D-8A0B-A393F695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13E-94DD-4CCC-A8EA-452A9E8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812-B647-4169-8EC2-0B7DE90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80C-2DFD-4C8B-A40E-D1DF632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12A-F438-4C1F-B336-5DC37018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5D7-F1CE-434B-8C66-FD4F96F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A83-BC81-4F0B-A7BA-AD09FB0C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630-4289-4914-93BF-9A7F86B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A249-5D9A-4942-9AF8-C5C8D475AD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4390-4BF8-4B2D-9F3F-D094D0E619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第十一章  国际金融创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nancial Inno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金融创新成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西方金融创新成因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W.I.Silber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约束诱导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E.J.Kane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的“规避管制型”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制度学派的创新理论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Hicks ,Niehans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交易成本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其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林和海伍德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格里和肖的金融创新理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金融创新的背景与原因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年代以来的创新浪潮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背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经济变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际金融形势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的原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过时的金融管制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国债的大量发行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资本国际化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新技术的应用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）经济思想变化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金融创新实践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管理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各国政府金融管制与监督的差异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管制与监督的演变与金融改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2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纪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0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年代以来西方国家管制与监督变化趋势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制度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规避管制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转移风险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增强流动性、降低成本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金融市场创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世界特大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金融创新的特征、影响及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创新的特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利率自由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业务全能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工具多样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国际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运作信息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机构大型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金融创新对世界金融业的影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量巨增，市场结构不平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体系呈现新格局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战略调整，重视对外业务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银行业务电子化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金融创新中存在的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府金融机构的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体系稳定性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政策的重新选择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17:36Z</dcterms:created>
  <dc:creator>MS User</dc:creator>
  <dc:description/>
  <dc:language>en-US</dc:language>
  <cp:lastModifiedBy>Dell</cp:lastModifiedBy>
  <dcterms:modified xsi:type="dcterms:W3CDTF">2021-08-23T22:48:37Z</dcterms:modified>
  <cp:revision>10</cp:revision>
  <dc:subject/>
  <dc:title>第六章  国际金融创新</dc:title>
</cp:coreProperties>
</file>